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C0E-82C6-453C-9361-F556EFDE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32B-4816-4BE2-9DAB-7586F192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54D-653D-4B10-A51D-793B47D9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DE1-766B-440A-8384-F218840F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0B3-39A4-4EE1-97D7-A91B5FA3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FEB-D926-4EE6-8597-A820A7BF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0B4-3762-4FDE-A8C6-6C1E6FC5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3C7-7F45-48B2-8779-35764A9F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010-289D-4A90-887D-46F209C8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AE2-023B-424A-95DC-DF5712C1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D80-AE3D-4706-8CEC-C0290E33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0FC-3908-4769-8F18-8C3436C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8C96-7F0A-4F8D-A40A-3114756FEA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0" y="306864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997360"/>
            <a:ext cx="36831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1:24Z</dcterms:modified>
  <cp:revision>2</cp:revision>
  <dc:subject/>
  <dc:title>Diapositive 1</dc:title>
</cp:coreProperties>
</file>